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EA25-3BBE-4E79-8268-10B0581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FC2-DAAA-4F8A-9D52-9255806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372-F3E0-44E9-B9F8-E4A8E21C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E35-0B5C-4E40-B830-47D30630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A49-38F6-4CCB-9669-2549CBD4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4A10-3C80-44CE-9F62-10D945F4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E50-A6F3-43BB-9A7E-E829FA9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C62A-C0C4-460C-A084-935346E3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6F51-BB5C-410E-9A12-8ACBB203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DC66-CDA2-40AC-9D8E-D6AE85BF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58C3-54A1-4E22-9661-9A8AEAB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E86-5B13-4833-BDE9-3C7D9671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CDF5-7A0B-4CDC-A9D9-5B144B8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B179-B22D-4EE8-AC3A-DFE5A4D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EAE-9932-4CF7-A611-1D4E9911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D937-6F9F-4851-A5A0-2DD68A60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7D47-AC0A-4A47-9C90-5AE02EBB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7CE-6458-4A71-B1AE-09D7CC54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035-9D63-4EEF-972C-3342219C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B61-B5F8-483C-BB56-E91C526F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4AC-F504-443C-822D-7C1EA88D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00C-D85D-4DEC-9E58-C0D82B4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D47-43A2-42F5-9157-D846AFB2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7DF-4119-4BFB-A737-DCD0DC5F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8EA1-73CA-46C9-9980-2F1308FB9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4420-B74B-428C-8C34-1BB8FFD28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olving Word 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k for clues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 are some CLUE WORDS that will help you decide what to d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540160" cy="281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ddi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traction Clue Word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mo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are lef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ffer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et’s look at the example again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see any CLUE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ll,”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“in all” tell us that we should AD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 that we UNDERSTAND the problem, and have a PLAN, we’re ready for the next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 number sentence using the information in the problem, and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68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68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6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ork it ou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552840" cy="3748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Give it a try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 number sentence and SOLVE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68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68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68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wrote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4 + 12 = 26 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scare me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rcRect l="12073" t="25242" r="36218" b="5257"/>
          <a:stretch/>
        </p:blipFill>
        <p:spPr>
          <a:xfrm>
            <a:off x="5105520" y="1752480"/>
            <a:ext cx="291456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es your answer fit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768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768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3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5" dur="768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ad to find out how many birds Alex saw in 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dded the number he saw yesterday and the number he saw toda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ur answer was “Alex saw 26 birds in all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t makes sense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e did i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 are Word Problem Whizze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08952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768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4" dur="768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6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8" dur="768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ere are the steps once more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1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2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3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LVE it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ep 4 –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LOOK BAC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 make me nervous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2768760" cy="43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d Problems?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 just skip them!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9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n’t Worry!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95680" y="1828800"/>
            <a:ext cx="426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ith just 4 easy steps, you can become…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Word Problem Whiz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332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DERSTAND the proble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are you trying to figure ou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re’s an exampl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terday, Alex saw 14 birds in his backyard.  Today, he saw 12.  How many birds did he see in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roblem, what are you trying to figure ou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If you said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many birds did Alex see in all?” then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You’re right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p 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t a PLA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will you answer the question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ould you ADD or SUBTRACT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768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768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768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2:51:05Z</dcterms:created>
  <dc:creator>Donnell</dc:creator>
  <dc:description/>
  <dc:language>en-US</dc:language>
  <cp:lastModifiedBy>5853</cp:lastModifiedBy>
  <dcterms:modified xsi:type="dcterms:W3CDTF">2010-02-23T13:47:01Z</dcterms:modified>
  <cp:revision>15</cp:revision>
  <dc:subject/>
  <dc:title>Solving Word Problems</dc:title>
</cp:coreProperties>
</file>